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15FE-99C4-47AD-B8BB-9FD95B91B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AFD9-0ADC-45F4-ADCE-795943C46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E05-CC70-4EEF-9FB8-3E3C1C06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58B-2704-4D79-896E-9509F1AB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A04C-DDF1-489C-A436-AB856199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6D27-5A2E-4390-AC04-DFB1B7D4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0D4F-2372-4409-BE3F-7373745D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703D-C578-4CC0-A49E-36FCACDC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36C4-E0D5-4B11-A04F-41A115AA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474D-B833-44DB-A43E-461433D4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8FB9-EF55-4BA3-B026-8F60ED59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E25F-062B-4297-B795-5DD5E816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07DC-E5D8-4C0F-A264-849E8AD8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286-1B04-4562-8B17-1FCAF329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5167-EC62-49F2-89D4-94845DC2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1578-D0C7-443C-96E1-DC77D67F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2B26-3363-4BCD-A047-62F52898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041C-D4D5-4F93-A4F9-816BDB9A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7973-738E-401F-A56E-B145B900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F113-59F4-4EFD-95EA-313FD709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68C-5914-44AF-A250-2FFB715E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71B-BE0A-406D-850F-95FBE0FE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EB8-B708-4358-B3D0-805E4170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76F8-B2C1-4A65-A79F-03A8E714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D2FC-EDE6-44C9-A51A-58349C0B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219-15B4-42D3-AEFF-C9883E8E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AB3A-5FE2-4E77-B803-10901ABC1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0D05-50A8-429D-93A7-D5F916D0F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336666"/>
                </a:solidFill>
                <a:latin typeface="Arial Black"/>
              </a:rPr>
              <a:t>DISTRICT     AGRICULTURE DEVELOPMENT OFFICES IN MALAWI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120" y="3580920"/>
            <a:ext cx="5410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300" spc="-1" strike="noStrike">
                <a:solidFill>
                  <a:srgbClr val="000000"/>
                </a:solidFill>
                <a:latin typeface="Arial"/>
              </a:rPr>
              <a:t>CHALLENGES IN INTENSIFICATION OF AGRICULTURAL ACTIVITI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CHALLENG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Inadequate staff at field leve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Erratic rainfal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Dwindling soil fertilit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Inadequate financial resources to implement field activit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WAY FORWAR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lead farmer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drought tolerant intervention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cropping systems that help to increase soil fertilit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Encourage harmonization of programmes and resources to best implement  agric. Activit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ZIKOM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taffing Posi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905120"/>
          <a:ext cx="7620120" cy="1993680"/>
        </p:xfrm>
        <a:graphic>
          <a:graphicData uri="http://schemas.openxmlformats.org/drawingml/2006/table">
            <a:tbl>
              <a:tblPr/>
              <a:tblGrid>
                <a:gridCol w="1447920"/>
                <a:gridCol w="1295280"/>
                <a:gridCol w="1636560"/>
                <a:gridCol w="1621080"/>
                <a:gridCol w="1619280"/>
              </a:tblGrid>
              <a:tr h="429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VAC.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CH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Object 27"/>
          <p:cNvGraphicFramePr/>
          <p:nvPr/>
        </p:nvGraphicFramePr>
        <p:xfrm>
          <a:off x="3352680" y="7162920"/>
          <a:ext cx="5186520" cy="7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7162920"/>
                    <a:ext cx="5186520" cy="7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336666"/>
                </a:solidFill>
                <a:latin typeface="Arial Black"/>
              </a:rPr>
              <a:t>RAINFALL VARIABILITY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fall pattern is erratic in some parts of the distri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the mean rainfall for the districts in 2011/12 w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ny days compar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ny days last year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rly planted crops (mainly maize and legumes), face great damage and full recovery is almost im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Rainfall cont’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4" name="Content Placeholder 5" descr=""/>
          <p:cNvPicPr/>
          <p:nvPr/>
        </p:nvPicPr>
        <p:blipFill>
          <a:blip r:embed="rId1"/>
          <a:stretch/>
        </p:blipFill>
        <p:spPr>
          <a:xfrm>
            <a:off x="755640" y="1901880"/>
            <a:ext cx="77119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Effects of Weather (rainfall) on Crop, Livestock   &amp; Fish Development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crop germination and emergence causing continued replanting/gap fil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crop/pasture establishment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fertilizer utilization and very difficult to achieve timely fertilize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big differences in crop stages within or among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difficult to achieve timely planting/transplanting and herbicides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rying up of p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ood Situation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, the food situation for the districts is at around 9% (farm families without own food) compared to almost 1% same time last year (fig. 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od is available in most mar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ood Situation con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0" name="Content Placeholder 5" descr=""/>
          <p:cNvPicPr/>
          <p:nvPr/>
        </p:nvPicPr>
        <p:blipFill>
          <a:blip r:embed="rId1"/>
          <a:stretch/>
        </p:blipFill>
        <p:spPr>
          <a:xfrm>
            <a:off x="755640" y="1901880"/>
            <a:ext cx="77119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66"/>
                </a:solidFill>
                <a:latin typeface="Arial Black"/>
              </a:rPr>
              <a:t>Coping Mechanisms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insecure households are surviving through the following me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ng casual labour in exchange for food or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ing charcoal and fire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of other commodities like mats, vegetable and fr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pots and baskets with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duction figur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62120" y="16761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ize production has decreased by 12% from 175,000MT in 2010/11 season to 153,000MT in 2011/12 seaso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ry spells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w soil fertility as a result of low input uptake.( FISP+ other soil fertility interventions to sustain soil productivit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1:02:08Z</dcterms:created>
  <dc:creator>Malon</dc:creator>
  <dc:description/>
  <dc:language>en-US</dc:language>
  <cp:lastModifiedBy>Admin</cp:lastModifiedBy>
  <dcterms:modified xsi:type="dcterms:W3CDTF">2012-10-02T16:40:55Z</dcterms:modified>
  <cp:revision>147</cp:revision>
  <dc:subject/>
  <dc:title>NTCHEU DISTRICT     AGRICULTURE DEVELOPMENT OFFICE</dc:title>
</cp:coreProperties>
</file>